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2AC-BD39-4C03-B100-E5166728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FA2-9622-4E45-AC13-F809820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678-3DE6-4A73-B54E-3DD8ECB7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CA5-EB32-4332-B0F4-425732AF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59E-40C5-46ED-9DA5-55ECCA1A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1F5-B8E0-4969-A5E1-829F86F7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A7A-C3D1-44A3-8AF3-E86A62C3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FFF-D56E-450E-8B61-78D1F9DA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632-5434-44C9-B49D-3958133D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06D-71FF-4C4A-BF76-BACA912C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0DF-8ADF-4A94-9FCE-B310DB0D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395-855B-47D7-84BD-19091D95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CD19-74E5-4317-B889-AC3450547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Me llamo ______________        Clase 702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La fecha es el 22 de septiembre del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Propósito # 4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¿Como eres tú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- Conjuga el verbo S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I- Completa con la forma correcta del verbo S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éctor ______ muy intelig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o no _______ pelirroj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Mis amigos y yo ________ estudi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¿_______ tú un(a) buen(a) alumn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Rosa _________ estadouniden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upe y José ________ amig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93640" y="2255760"/>
          <a:ext cx="7620120" cy="1706760"/>
        </p:xfrm>
        <a:graphic>
          <a:graphicData uri="http://schemas.openxmlformats.org/drawingml/2006/table">
            <a:tbl>
              <a:tblPr/>
              <a:tblGrid>
                <a:gridCol w="1600200"/>
                <a:gridCol w="1790640"/>
                <a:gridCol w="2248200"/>
                <a:gridCol w="1981080"/>
              </a:tblGrid>
              <a:tr h="4269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 (to b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41"/>
          <p:cNvSpPr/>
          <p:nvPr/>
        </p:nvSpPr>
        <p:spPr>
          <a:xfrm>
            <a:off x="440388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  Escribe en Plu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hico es estadounid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chacha es bo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legio es mod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urso es fa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601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II. Copia y completa con la forma correcta de SER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ara, ¿De dónde ______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¿_______ de Florida o de Cuba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Yo ______ de Cub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h, ___________ cubanoamerican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i. Y tú, ¿De dónde ___________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¿Yo? Yo _______ de Dall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Yo ______ mexicanoamerican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6:50Z</dcterms:created>
  <dc:creator>Helen Zumaeta</dc:creator>
  <dc:description/>
  <dc:language>en-US</dc:language>
  <cp:lastModifiedBy>Helen Zumaeta</cp:lastModifiedBy>
  <cp:lastPrinted>2014-09-15T15:36:18Z</cp:lastPrinted>
  <dcterms:modified xsi:type="dcterms:W3CDTF">2015-09-22T21:21:02Z</dcterms:modified>
  <cp:revision>17</cp:revision>
  <dc:subject/>
  <dc:title>Me llamo _________         Clase 6NH/IL La fecha es el 16 de diciembre del 2010</dc:title>
</cp:coreProperties>
</file>